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6AF-47BF-417E-8665-618EFB03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155-2573-4E15-8F83-B6D70BD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DFD-AA45-4100-89A4-749B78BA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957-B547-4FC0-9DC5-3F736E4C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31A-577F-4C45-8223-68DFFB1B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059E-76EA-4F87-8AF4-62F752FA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6B6-6152-4AF9-A496-36C46BE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883-760B-4632-9C41-8F7EBC77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C7CF-24CA-4D0C-811A-A3ECE797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C19F-8651-41C7-A192-677DDA4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B7A5-7EAF-4517-A371-FDDA5EA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276-BE24-4F88-8FFA-2C63AC1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C66-C265-44AE-86BD-A440345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654C-2328-48A5-BD82-D9B7158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37D8-A94C-48DC-BC45-8BF1ACA7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F43E-0B5B-4885-9693-5CFB1F5D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825C-6B33-40CD-B26E-DAFD8254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689-3A3B-4B42-B44E-EF7E9CE8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C44-A64E-4DA4-B3D4-25867CE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DB4-35F3-4928-BFAF-88E35827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7083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883-676B-48BD-8DC6-BF3211D4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D50-A38A-4493-9CA7-021191E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9F3-9DCB-4153-9F0A-89F15042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6C5-0992-4CC7-BC87-9716A41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D749-38B3-4BF4-A4D1-8913AA06B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Rectangle 8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Picture 10" descr="dice2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46" name="Rectangle 8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10" descr="dice2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86C3-F9B6-4B7A-8085-745C46B3B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33"/>
                </a:solidFill>
                <a:latin typeface="Allegro BT"/>
              </a:rPr>
              <a:t>Probability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9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urn!</a:t>
            </a:r>
            <a:br>
              <a:rPr sz="4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do on your own paper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not move forward until teacher checks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Give the total number of outcomes of choosing a hamburger, hot dog, or chicken and potato salad, coleslaw, or beans. Use a tree diagr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What is the chance of having a hot dog? Write in fraction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AG00317_"/>
          <p:cNvPicPr/>
          <p:nvPr/>
        </p:nvPicPr>
        <p:blipFill>
          <a:blip r:embed="rId1"/>
          <a:stretch/>
        </p:blipFill>
        <p:spPr>
          <a:xfrm>
            <a:off x="7848720" y="2286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3505320" y="6064200"/>
            <a:ext cx="2514600" cy="642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 E L P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ight Arrow 7"/>
          <p:cNvSpPr/>
          <p:nvPr/>
        </p:nvSpPr>
        <p:spPr>
          <a:xfrm>
            <a:off x="8077320" y="6172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Give the total number of outcomes of choosing a hamburger, hot dog, or chicken and potato salad, coleslaw, or beans. Use a tree diagram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2590920" y="342864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2590920" y="3657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2286000" y="47242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2286000" y="47242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9"/>
          <p:cNvSpPr/>
          <p:nvPr/>
        </p:nvSpPr>
        <p:spPr>
          <a:xfrm flipV="1">
            <a:off x="2286000" y="45716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2286000" y="5638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2286000" y="5486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9"/>
          <p:cNvSpPr/>
          <p:nvPr/>
        </p:nvSpPr>
        <p:spPr>
          <a:xfrm>
            <a:off x="2590920" y="3657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ight Arrow 20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4038480" y="3259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3733920" y="441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3733920" y="5334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tato sal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3733920" y="57913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3809880" y="48006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4114800" y="3733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e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6"/>
          <p:cNvSpPr/>
          <p:nvPr/>
        </p:nvSpPr>
        <p:spPr>
          <a:xfrm>
            <a:off x="4038480" y="34876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27"/>
          <p:cNvSpPr/>
          <p:nvPr/>
        </p:nvSpPr>
        <p:spPr>
          <a:xfrm>
            <a:off x="3733920" y="4630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3733920" y="5562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lesl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is the chance of having a hot dog? Write in fraction form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 out how many total options there are. Here there are a total of nine choices. This is your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find out how many options have a hot dog. Here there are a total of three choices. This is your numer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put the fraction in simplest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swer is 3/9 and then simplified is 1/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1"/>
          <p:cNvGrpSpPr/>
          <p:nvPr/>
        </p:nvGrpSpPr>
        <p:grpSpPr>
          <a:xfrm>
            <a:off x="7848720" y="5486400"/>
            <a:ext cx="990360" cy="914400"/>
            <a:chOff x="7848720" y="5486400"/>
            <a:chExt cx="990360" cy="914400"/>
          </a:xfrm>
        </p:grpSpPr>
        <p:sp>
          <p:nvSpPr>
            <p:cNvPr id="201" name="Octagon 29"/>
            <p:cNvSpPr/>
            <p:nvPr/>
          </p:nvSpPr>
          <p:spPr>
            <a:xfrm>
              <a:off x="7848720" y="5486400"/>
              <a:ext cx="914400" cy="91440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Box 30"/>
            <p:cNvSpPr/>
            <p:nvPr/>
          </p:nvSpPr>
          <p:spPr>
            <a:xfrm>
              <a:off x="7848720" y="5715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s all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mount of choices from a group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a particular item out of all the possible cho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3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w many options are there of picking a number from 1 to 5 and choosing the color red, white, or bl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write a list down the paper of the first item, in this case 1 t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ight Arrow 5">
            <a:hlinkClick r:id="rId1" action="ppaction://hlinksldjump"/>
          </p:cNvPr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determine how many options there are for the second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3 o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37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branches” off of each number. One for each second item, in this case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4"/>
          <p:cNvSpPr/>
          <p:nvPr/>
        </p:nvSpPr>
        <p:spPr>
          <a:xfrm flipV="1">
            <a:off x="1143000" y="320004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143000" y="34290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143000" y="3962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1143000" y="3962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1143000" y="3809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1295280" y="45720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1295280" y="44193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1219320" y="5181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1219320" y="5181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295280" y="57913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295280" y="5791320"/>
            <a:ext cx="12956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V="1">
            <a:off x="1219320" y="495252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8"/>
          <p:cNvSpPr/>
          <p:nvPr/>
        </p:nvSpPr>
        <p:spPr>
          <a:xfrm flipV="1">
            <a:off x="1295280" y="5562360"/>
            <a:ext cx="1371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143000" y="34290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ight Arrow 20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end of each branch, write one of the three options from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ms 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143000" y="3200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143000" y="3352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143000" y="3352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143000" y="38858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143000" y="4038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143000" y="4038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590920" y="3048120"/>
            <a:ext cx="8380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1143000" y="46479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1143000" y="4800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143000" y="4800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1219320" y="53337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219320" y="54864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 flipV="1">
            <a:off x="121932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219320" y="6248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1219320" y="6248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2590920" y="3733920"/>
            <a:ext cx="609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590920" y="4495680"/>
            <a:ext cx="609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666880" y="510552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666880" y="586728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ight Arrow 2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37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the last column of the tree diagram and count how many options are li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 flipV="1">
            <a:off x="1143000" y="32000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1143000" y="33526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1143000" y="33526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 flipV="1">
            <a:off x="1143000" y="388584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1143000" y="403848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143000" y="40384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590920" y="3048120"/>
            <a:ext cx="8380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1143000" y="46479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1143000" y="48006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1143000" y="48006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219320" y="533376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1219320" y="548640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121932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1219320" y="6248520"/>
            <a:ext cx="137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1219320" y="6248520"/>
            <a:ext cx="13716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2590920" y="3733920"/>
            <a:ext cx="6094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590920" y="4495680"/>
            <a:ext cx="609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666880" y="510552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666880" y="5867280"/>
            <a:ext cx="6098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ight Arrow 2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w many options are there of picking a number from 1 to 5 and choosing the color red, white, or b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 total of 15 total choices l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833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at is the chance of choosing the color 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five different times the color red could be chosen from all 15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ce of having the color red is 5/15 or reduced is 1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ight Arrow 5"/>
          <p:cNvSpPr/>
          <p:nvPr/>
        </p:nvSpPr>
        <p:spPr>
          <a:xfrm>
            <a:off x="8077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2:58:29Z</dcterms:created>
  <dc:creator>sellers</dc:creator>
  <dc:description/>
  <dc:language>en-US</dc:language>
  <cp:lastModifiedBy>ACT</cp:lastModifiedBy>
  <dcterms:modified xsi:type="dcterms:W3CDTF">2008-07-09T17:47:17Z</dcterms:modified>
  <cp:revision>36</cp:revision>
  <dc:subject/>
  <dc:title>Probability </dc:title>
</cp:coreProperties>
</file>